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A28-1525-432F-ADBF-D9EC227D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662-688A-4E16-8FE3-990D5692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400-2D14-4311-8E81-41CB7EC2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C86-EAEC-4DA8-819C-B268CE27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6E9D-3935-4ED6-8B1D-D4831363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8039-18A0-4558-ABC3-7CFB7A20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470A-1431-47FA-A873-C1B353E5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9681-AC01-400F-9488-DF687A8D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2E60-D1AE-4126-847C-36D7E4CA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D0AA-E098-4107-968A-0E1C86A4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2FA6-947A-4812-80E4-53AB119B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705-FA96-4EA0-83B8-46880BB3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3D65-1B41-4A38-8F36-40C8DBB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E4DF-49CA-44FF-B63E-22AC1CFF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2F7D-36C0-4492-9BE5-A07876F9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D085-D500-45AA-B502-6451445E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1A15-ED27-4122-AADC-E52F97B1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A98-D42A-43BA-A762-C4D9BB97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984-4F0E-4A1C-8150-85537D3B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073-2592-4278-9A1E-9B6BE8EC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D37-39AC-4538-8095-0226C1A4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780-6D85-43A3-A6E0-04DDA98B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AC7-59BB-4A5C-BF76-A7ACE763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E28-3000-4BF3-93B4-EB51C391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CB51-B251-452A-977C-F7E2E94A5F6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50CB-2407-4078-9251-7DC74945F60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ILITY PL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RAT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ERG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JOR CONCER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ADEM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HLE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TY AND CIVIC 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AIL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NING KE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O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 PERI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ENANCE AND RENO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ANCIAL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ION OF FUNDS TO BUI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ION OF FUNDS TO OPE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ION OF FUNDS TO MAIN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 OF POSSIBLE RENO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 TO REPLACE CONSUM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RANGE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NING TE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PERSONN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ALISTS IN EDUCATIONAL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TE SELE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VIRONMENTAL FAC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F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E SAF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WA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CATION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X MA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USTRIAL AND COMMERCIAL DEVELOP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CIALOGICAL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CONOMIC S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MPLOYMENT OPPORT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DITIONS AND VAL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IGIOUS MAKE-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LTURAL POSSIB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REATIONAL OPPORT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TRUCTION DATA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STEM MA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ILDING MA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OOR PL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STORY OF CO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CIPLES OF LONG RANGE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ASSUMP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EFFECTIVE USE OF SERVICEABLE FAC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NOT FREEZE FUTURE BO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 “TACK-ON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FY MOST SUITABLE GRADE ORI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LY EFFE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CONOMICALLY SOU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FLEXIBLE AND LIST ALTERN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AWARE OF MAX AND MIN ENROLL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E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E TO FINANCIAL 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FETY, WELFARE, CONVEN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ATEGIC LO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S IN BUIL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.  LONG RA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ENROLLMENT PROJ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 BUILDING SURV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LONG RANGE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 BOAR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.  ENLIST CITIZEN PARTICIP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UCATIONAL SPECIF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PTION OF FACILITIES, EQUIPMENT, FURNITURE, SPACE, AND OTHER CONSIDERATIONS NECESSARY FOR EDUCATIONAL PROGRAM AND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I.  PUBLIC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ASSESS AT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 DEVELOP STRATEGY FOR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II. 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OBTAIN PLANNING FU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 SECURING PROFESSIONAL 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SELECTING THE S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 COMPREHENSIVE SET OF ED SPE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.  PRELIMANARY DRAW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6.  PROGRESS PR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.  FINAL WORKING DRAW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.  PROCDURES FOLLOWING DRAW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LIAZ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SPEICALIZ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LEMEN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ERGY NEE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LTH AND COMF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ING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NTI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PMENT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S DOWN THE R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SONABLE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ECTIVE AND EFFICI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ERGY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ULATION INCLUDING FOUND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ORS AND WINDO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UCE WINDOW ARE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ENINGS KEPT TIG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FFICIENT EQUIP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 Z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KE ADVANTAGE OF EXHAUST A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 HUMID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ING DRAWINGS PROTOC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1:  COVER SHE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2:  ACCURATE SITE PLAN WITH TOPOGRAPHICS AND UT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3:  OVERALL PLOT OF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4 :  DETAIL OF PLO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5: FLOOR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6:  DETAIL DRAW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7:  MECHANIC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DDING PROC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ERT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 BID BO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ORDERS CLARIF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QUIDATED DAM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LLOW THE BID F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TRUCTION ARE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R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VISOR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ORDINATED PR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IODIC CONSTRUCTION MEETIN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INTENDENT OF JO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CONTRAC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E ADMINISTRATOR IF RENO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SINESS ADMINISTRATION FUNCTION IN SCHOO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DGETTING AND FINANCIAL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RCHASING AND SUPPLY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T PLANNING AND CO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-COMMUNITY RE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NNEL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-SERVICE TRAI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RATION AND MAINTENANCE OF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ULE OF RISK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BETTER TO PLAN AND PREVENT ACCIDENTS THAN TO HAVE TO PAY FOR LIABILI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POR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OD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UNTING AND REPOR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PROCES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NTSMANSH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FICE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RESOURCES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TUCTURING FIN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TIVITY OF LEARNING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S AND EFFECT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NO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REGULATION AND DECENTRAL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ICE AND COMPET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ICATIONS OF RESTRUCTURING FIN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/COST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UNTABILITY SYS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OPERATIVE RELATIONS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-EFFECTIVENESS RATION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 ALTERNATIVE EDUCATIONAL 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ISE POLICY MA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SEM OF FISCAL ACCOUNT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HENSIVE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SYSTEM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VERSITY OF SK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OURCES NEEDED FOR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GAL CONTEXT OF SCHOOL BUSINESS ADMINIST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TEN CO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U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DGE-MADE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MINISTRATIVE LA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RESPONSI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RESPONSI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L DISTRICT RESPONSI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GAL CONCEP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UTES OF THE BO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ACTUAL AUTHO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A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OOL MON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 SYST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RT AND TORT LI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FLICT OF INTER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RIM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E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LIANCE AND MONITORING OF COMPLI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TRUCTION MAN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CHIT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ERK OF THE 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PARING ED SPE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RS OF THE FAC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ALISTS IN THE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CHITECT AND ENGINE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TE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WAY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F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CONOMIC GROW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TURAL 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ERATIONAL MAN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EA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UTINE MAINTEN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FETY CHE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 RESPONSI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LTH PRO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CHANICAL EQUIP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ING SYSTEMS MANU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ERGENCY MAN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F CAMPUS S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K DOWN PRO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OR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NTRAL OFFICE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INTENANCE MAN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RATING INSTRU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ERGENCY EQUIPMENT STAND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UTINE PRO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P???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8:08:17Z</dcterms:created>
  <dc:creator>AEURY</dc:creator>
  <dc:description/>
  <dc:language>en-US</dc:language>
  <cp:lastModifiedBy>AEURY</cp:lastModifiedBy>
  <dcterms:modified xsi:type="dcterms:W3CDTF">2007-05-23T18:00:21Z</dcterms:modified>
  <cp:revision>5</cp:revision>
  <dc:subject/>
  <dc:title>FACILITY PLANS</dc:title>
</cp:coreProperties>
</file>